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2D75-F7D5-48FA-A92F-659B87BF4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ic, royalty, castles, events happen in 3s and 7s, good vs evil, happy e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F2A0-03C8-46C8-9208-3995DEC2C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6C8-45F8-46A0-A0ED-4B986B47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CBB-5308-43B0-BDE2-4FDC2B6B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E00-D45E-449C-BBA6-11F31EB3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277-4FBE-41D8-86CE-DC420294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B0E-9E34-412E-8C78-6073BC90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E74-B29B-4CC1-B7B0-A99971B9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978-A8C5-4F05-9560-3C35F925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714-5D28-4C05-BE5D-6EE20396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F48-B0B6-49FC-B491-6000F9D3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C44-0776-4D69-910F-2BE619B5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0DC-6B22-480B-89E1-3582F027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09D-09C8-4C6E-8E49-78CB9D1C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0DB2-1331-464B-87FF-F42CA0DF9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iry Tale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ecx.images-amazon.com/images/I/517JWJGVCCL._BO2,204,203,200_PIsitb-sticker-arrow-click,TopRight,35,-76_AA300_SH20_OU01_.jpg"/>
          <p:cNvPicPr/>
          <p:nvPr/>
        </p:nvPicPr>
        <p:blipFill>
          <a:blip r:embed="rId1"/>
          <a:srcRect l="11539" t="14109" r="17952" b="0"/>
          <a:stretch/>
        </p:blipFill>
        <p:spPr>
          <a:xfrm>
            <a:off x="1523880" y="380880"/>
            <a:ext cx="50292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cricketmag.com/ProductImages/CINDY.jpg"/>
          <p:cNvPicPr/>
          <p:nvPr/>
        </p:nvPicPr>
        <p:blipFill>
          <a:blip r:embed="rId1"/>
          <a:stretch/>
        </p:blipFill>
        <p:spPr>
          <a:xfrm>
            <a:off x="1066680" y="380880"/>
            <a:ext cx="670572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ritingupastorm.typepad.com/.a/6a01156fd16a08970c011570448596970c-800wi"/>
          <p:cNvPicPr/>
          <p:nvPr/>
        </p:nvPicPr>
        <p:blipFill>
          <a:blip r:embed="rId1"/>
          <a:stretch/>
        </p:blipFill>
        <p:spPr>
          <a:xfrm>
            <a:off x="1295280" y="301680"/>
            <a:ext cx="609624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you not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notice about the sett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notice about the charact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2.bp.blogspot.com/_lHECU9qpCfY/S4cgJZtXHkI/AAAAAAAAA-U/pR9PXspAnic/s320/snow+white+book.jpg"/>
          <p:cNvPicPr/>
          <p:nvPr/>
        </p:nvPicPr>
        <p:blipFill>
          <a:blip r:embed="rId1"/>
          <a:stretch/>
        </p:blipFill>
        <p:spPr>
          <a:xfrm>
            <a:off x="1143000" y="152280"/>
            <a:ext cx="6477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booksofwonder.com/images/R0032220.dd.gif"/>
          <p:cNvPicPr/>
          <p:nvPr/>
        </p:nvPicPr>
        <p:blipFill>
          <a:blip r:embed="rId1"/>
          <a:stretch/>
        </p:blipFill>
        <p:spPr>
          <a:xfrm>
            <a:off x="1447920" y="457200"/>
            <a:ext cx="6019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photo.goodreads.com/books/1172678031l/205966.jpg"/>
          <p:cNvPicPr/>
          <p:nvPr/>
        </p:nvPicPr>
        <p:blipFill>
          <a:blip r:embed="rId1"/>
          <a:stretch/>
        </p:blipFill>
        <p:spPr>
          <a:xfrm>
            <a:off x="685800" y="304920"/>
            <a:ext cx="716292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upload.wikimedia.org/wikipedia/en/1/17/The_Paper_Bag_Princess.jpg"/>
          <p:cNvPicPr/>
          <p:nvPr/>
        </p:nvPicPr>
        <p:blipFill>
          <a:blip r:embed="rId1"/>
          <a:stretch/>
        </p:blipFill>
        <p:spPr>
          <a:xfrm>
            <a:off x="838080" y="380880"/>
            <a:ext cx="632484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02:28Z</dcterms:created>
  <dc:creator>127paire</dc:creator>
  <dc:description/>
  <dc:language>en-US</dc:language>
  <cp:lastModifiedBy>127paire</cp:lastModifiedBy>
  <dcterms:modified xsi:type="dcterms:W3CDTF">2011-10-13T14:13:15Z</dcterms:modified>
  <cp:revision>2</cp:revision>
  <dc:subject/>
  <dc:title>Fairy Tale Books</dc:title>
</cp:coreProperties>
</file>